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7432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14"/>
          </p:nvPr>
        </p:nvSpPr>
        <p:spPr>
          <a:xfrm>
            <a:off x="0" y="941076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15"/>
          </p:nvPr>
        </p:nvSpPr>
        <p:spPr>
          <a:xfrm>
            <a:off x="385416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8180-1CB6-428D-AE1C-46F73ED873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CF36-62FA-4A55-A547-0596A233A11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4ABD-B2BF-44E3-B150-47948128A79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CB9E-037F-42F4-B5AE-F4B4CDF2D0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34CB-3D5C-43D7-A42A-A238ECD8EA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4009-4CAA-4366-833D-B749D5E5E3B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238F-4C91-4113-AB47-FC881D7485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1680-F517-42AB-ADD1-2CE5D70EF64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44A9-3734-4107-962F-A3C90E01B8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3605-A2E3-4F87-91EE-A81F0DB6B1B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0A61-5F01-4CF8-BEFD-063BB338A0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9618-0855-4019-BED2-443D1445B4B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B697-F8E5-466C-B9DD-EB2F950473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EB8D-6DCF-4D7D-9315-16E7630B738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2851-2604-43CF-9D99-2DB9E7CE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77F2-8E67-44B4-9AB4-CD6690B4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BDA4-CB34-44F7-B8DF-DD3C9BAD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095B-9729-49B1-B67F-7FB115B3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B86D-D6EC-40BC-AECB-88D924DF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C27C-8D96-4FE1-B1F4-30DEFC06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A735-059C-44A4-8D37-BFD4A1AA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36C5-36B7-4E4B-9939-82FA3ECC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5D0D-10EE-4366-AB38-0FA8CD59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0AF3-A7B3-4736-850C-87141C8A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0393-F0BF-46D1-BD84-D01E6B52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1CD8-29EA-4B21-BD78-95F68741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243DD-CC58-4588-B9C1-6F4FAE9C5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F78E-D38E-4607-8C86-9B19A5B7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7B472-370C-425D-BA15-AEC08A57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2E138-C1EC-41A4-B6BE-8EA9BA72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2D95-ED1C-44DE-831E-8C753438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1E3F-B747-4D89-8D39-0AA61075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0A48-867F-4C13-B812-F3EC77CE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15E9D-444B-4E6B-B4A7-B0A4A110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EE919-9EBA-4336-8F34-6D260895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C1DB9-9DBB-4056-9AE3-8F4197C9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550C1-D3E7-43CD-8735-2E9FD4A8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0790-4341-4B87-B2D7-A3B81A1D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BC119-BD27-417A-9919-A0558D735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8DD26-A0FD-4FC0-9DC9-D5AC15BE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CBAF-DAAE-4E79-95FE-65EFB7BF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9FC2C-FB54-4F18-BCBE-38082321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D4732-E48E-41A9-A346-D0B948E1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5219D-026A-4A3C-8149-2A7AA0BF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9E53C-59A0-4E6D-90CC-FC968895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C707-AC79-4698-9CB3-109EAB1F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20AAB-01E1-4B40-AF80-D7F5F99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C93DD-6CDE-447F-8E04-441C73BD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58A37-4733-423E-A7F1-95A9B1B9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19D5-B60E-4A65-8DCC-0BCB482E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04120"/>
            <a:ext cx="6157800" cy="361800"/>
          </a:xfrm>
          <a:prstGeom prst="rect">
            <a:avLst/>
          </a:prstGeom>
          <a:solidFill>
            <a:srgbClr val="84c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457200" y="6504120"/>
            <a:ext cx="8686800" cy="361800"/>
          </a:xfrm>
          <a:prstGeom prst="rect">
            <a:avLst/>
          </a:prstGeom>
          <a:solidFill>
            <a:srgbClr val="c7e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Obraz 3" descr=""/>
          <p:cNvPicPr/>
          <p:nvPr/>
        </p:nvPicPr>
        <p:blipFill>
          <a:blip r:embed="rId2"/>
          <a:stretch/>
        </p:blipFill>
        <p:spPr>
          <a:xfrm>
            <a:off x="6033960" y="6103800"/>
            <a:ext cx="2820960" cy="925560"/>
          </a:xfrm>
          <a:prstGeom prst="rect">
            <a:avLst/>
          </a:prstGeom>
          <a:ln w="0">
            <a:noFill/>
          </a:ln>
        </p:spPr>
      </p:pic>
      <p:pic>
        <p:nvPicPr>
          <p:cNvPr id="5" name="Obraz 9" descr=""/>
          <p:cNvPicPr/>
          <p:nvPr/>
        </p:nvPicPr>
        <p:blipFill>
          <a:blip r:embed="rId3"/>
          <a:stretch/>
        </p:blipFill>
        <p:spPr>
          <a:xfrm>
            <a:off x="324000" y="33480"/>
            <a:ext cx="1800000" cy="793440"/>
          </a:xfrm>
          <a:prstGeom prst="rect">
            <a:avLst/>
          </a:prstGeom>
          <a:ln w="0">
            <a:noFill/>
          </a:ln>
        </p:spPr>
      </p:pic>
      <p:pic>
        <p:nvPicPr>
          <p:cNvPr id="6" name="Obraz 10" descr=""/>
          <p:cNvPicPr/>
          <p:nvPr/>
        </p:nvPicPr>
        <p:blipFill>
          <a:blip r:embed="rId4"/>
          <a:stretch/>
        </p:blipFill>
        <p:spPr>
          <a:xfrm>
            <a:off x="6910560" y="189000"/>
            <a:ext cx="1944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4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8"/>
          <p:cNvSpPr/>
          <p:nvPr/>
        </p:nvSpPr>
        <p:spPr>
          <a:xfrm>
            <a:off x="0" y="500040"/>
            <a:ext cx="928800" cy="1071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88F0-4B40-4C9F-AA50-3587B6D8D33F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4DFD-24E2-4951-A339-A1911526889B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224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82F9-CC54-4A4C-9EA0-5B3764A7416B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rostokąt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H:\Grupy\DL\FOTOLIA\Fotolia_65208503_M.jpg"/>
          <p:cNvPicPr/>
          <p:nvPr/>
        </p:nvPicPr>
        <p:blipFill>
          <a:blip r:embed="rId1"/>
          <a:srcRect l="0" t="0" r="3757" b="0"/>
          <a:stretch/>
        </p:blipFill>
        <p:spPr>
          <a:xfrm>
            <a:off x="0" y="-17136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Prostokąt 30"/>
          <p:cNvSpPr/>
          <p:nvPr/>
        </p:nvSpPr>
        <p:spPr>
          <a:xfrm>
            <a:off x="0" y="166212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31"/>
          <p:cNvSpPr/>
          <p:nvPr/>
        </p:nvSpPr>
        <p:spPr>
          <a:xfrm>
            <a:off x="395280" y="1662120"/>
            <a:ext cx="86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y Fundusz Ochrony Środowiska i Gospodarki Wod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ole tekstowe 32"/>
          <p:cNvSpPr/>
          <p:nvPr/>
        </p:nvSpPr>
        <p:spPr>
          <a:xfrm>
            <a:off x="468360" y="2090880"/>
            <a:ext cx="83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ęść 1) Sokół – wdrożenie innowacyjnych technologii środowis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raz 11" descr=""/>
          <p:cNvPicPr/>
          <p:nvPr/>
        </p:nvPicPr>
        <p:blipFill>
          <a:blip r:embed="rId2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79" name="pole tekstowe 9"/>
          <p:cNvSpPr/>
          <p:nvPr/>
        </p:nvSpPr>
        <p:spPr>
          <a:xfrm>
            <a:off x="870120" y="5291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partament Innowacji i Ekspert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rostokąt 13"/>
          <p:cNvSpPr/>
          <p:nvPr/>
        </p:nvSpPr>
        <p:spPr>
          <a:xfrm>
            <a:off x="-44280" y="350676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3"/>
          <p:cNvSpPr/>
          <p:nvPr/>
        </p:nvSpPr>
        <p:spPr>
          <a:xfrm>
            <a:off x="1886040" y="3716280"/>
            <a:ext cx="70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ryteria oceny projektów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Składanie wniosku w GWD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200" spc="-1" strike="noStrike">
                <a:solidFill>
                  <a:srgbClr val="00800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lipsa 10"/>
          <p:cNvSpPr/>
          <p:nvPr/>
        </p:nvSpPr>
        <p:spPr>
          <a:xfrm>
            <a:off x="108000" y="162864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rostokąt 2"/>
          <p:cNvSpPr/>
          <p:nvPr/>
        </p:nvSpPr>
        <p:spPr>
          <a:xfrm>
            <a:off x="2654280" y="1197000"/>
            <a:ext cx="6489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 znaczne zmniejszenie oddziaływania na środowisko rozumie się zmianę (zmniejszenie/ zwiększenie) w wysokości nie mniejszej niż 10% w stosunku do stanu sprzed realizacji projektu. Projekt wpisuje się w jeden z obszarów wymienionych poniże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oszczędność surowcową, w tym oszczędność wod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technologii mało- i bezodpadowych, w tym zmniejszenie ilości ściekó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ilości zanieczyszczeń odprowadzanych do atmosfe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poziomu hałas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wydłużających cykl życia produ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zmniejszających zużycie energ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ole tekstowe 3"/>
          <p:cNvSpPr/>
          <p:nvPr/>
        </p:nvSpPr>
        <p:spPr>
          <a:xfrm>
            <a:off x="14400" y="4713120"/>
            <a:ext cx="91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B+R nie wprowadzamy konieczności uzyskania efektu ekologicznego do umowy o dofinansowanie, określamy natomiast obszar w którym spodziewamy największego efektu, będącego jednocześnie największą przewagą konkurencyjną, uprawdopodabniamy możliwość jego osiągnięcia w porównaniu do szeroko stosowanych rozwiązań oraz sparametryzowaną metodologię jego obliczenia. Doprecyzowanie i ewentualnej parametryzacji efektu oczekuje się na końcowym etapie realizacji przedsięwzięcia w ramach fazy B+R, np. w Raporcie Końcowy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żliwość zastosowania wyników projektu w gospodarce lub ich innego praktycznego wykorzystan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siadanie odpowiednich zasobów materialnych i kadrowych niezbędnych do realizacj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winny zostać wskazane  rozwiązania alternatywne, które rozważano. Rozwiązaniem alternatywnym nie może być wyłącznie wariant „0”, jak również nie powinny to być przestarzałe lub funkcjonujące od lat rozwiązania – dla przedsięwzięcia innowacyjnego należy dokonywać analizy rozwiązań alternatywnych w obszarze nowoczesnych dostępnych rozwiązań w danej dziedzinie. Alternatywne warianty mogą też dotyczyć nie tylko technologii, lecz również np. samego sposobu realizacji przedsięwzięcia, lokalizacji, zidentyfikowanych problemów it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3"/>
          <p:cNvSpPr/>
          <p:nvPr/>
        </p:nvSpPr>
        <p:spPr>
          <a:xfrm>
            <a:off x="250920" y="558972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rostokąt 2"/>
          <p:cNvSpPr/>
          <p:nvPr/>
        </p:nvSpPr>
        <p:spPr>
          <a:xfrm>
            <a:off x="2771640" y="1500120"/>
            <a:ext cx="604836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opisać aktualny stan nauki i techniki dla dziedziny objętej projektem i wykazać potencjał aplikacyjny w kontekście omówionego aktualnego stanu nauki i techniki, uwiarygodnić  zapotrzebowanie na wyniki projektu dla wybranej grupy docelowej odbiorców i udowodnić przewagę rozwiązania w stosunku do dotychczas stosowany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będzie podlegało posiadanie odpowiedniego personelu badawczego, odpowiednich warunków technicznych i infrastruktury badawczej. Wskazane podanie wszelkich istotnych dla realizacji projektu informacji dotyczących kwalifikacji i doświadczenia osób, którymi będzie dysponował wykonaw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kodawca powinien posiadać odpowiedni potencjał organizacyjny/doświadczenie dotyczące projektów badawczych, prac rozwojowych, wdrożeń innowacyjnych jak również wyspecjalizowaną komórkę organizacyjn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3"/>
          <p:cNvSpPr/>
          <p:nvPr/>
        </p:nvSpPr>
        <p:spPr>
          <a:xfrm>
            <a:off x="250920" y="533880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  <a:ea typeface="Arial"/>
              </a:rPr>
              <a:t>W przypadku zatrudnienia do całości lub części badań podwykonawcy – wszystkie ww. informacje dotyczące posiadanych kwalifikacji i doświadczenia należy podać również odnośnie zasobów podwykonaw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EFEKTY EKONOMICZ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ole tekstowe 1"/>
          <p:cNvSpPr/>
          <p:nvPr/>
        </p:nvSpPr>
        <p:spPr>
          <a:xfrm>
            <a:off x="179280" y="2060640"/>
            <a:ext cx="85694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W ramach tego kryterium ocenie będzie podlegało, czy wnioskodawca przedstawił potencjał rynkowy wyników projektu i przeanalizował go, wykazał korzyści z zastosowania wyników projektu w praktyce gospodarczej, czy oszacowano ekonomiczne efekty projektu, jak również potencjalne efekty  społeczne, środowis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Konieczność poniesienia wydatków na realizację projektu w celu osiągnięcia zakładanych rezultatów projektu (rzeczowego i ekologicznego) powinna zostać wystarczająco uzasadniona, a jednocześnie zakres przedsięwzięcia powinien obejmować wszystkie niezbędne elementy i tym samym gwarantować osiągnięcie zakładanych rezultatów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ole tekstowe 1"/>
          <p:cNvSpPr/>
          <p:nvPr/>
        </p:nvSpPr>
        <p:spPr>
          <a:xfrm>
            <a:off x="108000" y="1773360"/>
            <a:ext cx="8856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B+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, które obejmują wyłącznie prace badawcze i rozwojowe, o których mowa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odpowiednio w art. 2 pkt 3, ppkt. c) i pkt. 4 Ustawy z dnia 30 kwietnia 2010 r. o zasadach finansowania nauki. (Dz.U. 2018, poz. 8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Wydatki uznane za kwalifikowane zostaną również ocenione pod względem ich wysokości – czy są adekwatne do potrzeb projektu, zostały racjonalnie oszacowane i uzasadnione, przedstawiono wiarygodną metodę kalkulacji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ole tekstowe 1"/>
          <p:cNvSpPr/>
          <p:nvPr/>
        </p:nvSpPr>
        <p:spPr>
          <a:xfrm>
            <a:off x="324000" y="2060640"/>
            <a:ext cx="842472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Wyłączenia w stosunku do zakresu określonego w „Wytycznych (…)” podane są w pkt. 6 pkt. 2) Programu Priorytetowego, odpowiednio dla wniosków dotyczących fazy B+R i fazy 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1f497d"/>
                </a:solidFill>
                <a:uFillTx/>
                <a:latin typeface="Arial"/>
              </a:rPr>
              <a:t>Dla fazy B+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2) Koszty kwalifikowane 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fazie B+R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koszty w ramach kategorii 3.4.3 „Środki trwałe, sprzęt i wyposażenie, wartości niematerialne i prawne”, przeznaczone na zakup wartości niematerialnych i prawnych w formie licencji oraz nieopatentowanej wiedzy technicznej, technologicznej lub z zakresu organizacji i zarządzania, są kosztem kwalifikowanym nie współfinansowanym ze środków NFOŚiGW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ole tekstowe 1"/>
          <p:cNvSpPr/>
          <p:nvPr/>
        </p:nvSpPr>
        <p:spPr>
          <a:xfrm>
            <a:off x="250920" y="17654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Plan prac badawczo-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Schemat technologiczny innowacyjnej technologii będącej przedmiotem prac badawczo 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ublikacje nauko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opinie jednostek naukowo badawcz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kaz niezbędnego sprzętu wraz z wyce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schemat organizacyjny jednostki badawczo rozwoj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inne istotne dokumenty: zgłoszenie patentowe, licencje, umowy z jednostkami badawczymi, listy intencyjne potwierdzające zapotrzebowanie na wyniki prac badawczo rozwojowych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ybuch  2 3"/>
          <p:cNvSpPr/>
          <p:nvPr/>
        </p:nvSpPr>
        <p:spPr>
          <a:xfrm>
            <a:off x="3165480" y="2614680"/>
            <a:ext cx="3525840" cy="3397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Elipsa 4"/>
          <p:cNvSpPr/>
          <p:nvPr/>
        </p:nvSpPr>
        <p:spPr>
          <a:xfrm>
            <a:off x="3784680" y="366696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wdrożen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6"/>
          <p:cNvSpPr/>
          <p:nvPr/>
        </p:nvSpPr>
        <p:spPr>
          <a:xfrm>
            <a:off x="3508200" y="117000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17"/>
          <p:cNvSpPr/>
          <p:nvPr/>
        </p:nvSpPr>
        <p:spPr>
          <a:xfrm>
            <a:off x="6448320" y="2062080"/>
            <a:ext cx="265932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 przynajmniej w jednym wskazanym obszar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lipsa 18"/>
          <p:cNvSpPr/>
          <p:nvPr/>
        </p:nvSpPr>
        <p:spPr>
          <a:xfrm>
            <a:off x="5889600" y="4281480"/>
            <a:ext cx="3254400" cy="1886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czy uzasadniono wybór    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ozwolenie na budowę, prawo do gruntu, obiekty, kosztorys, harmonogram pr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rzygotowanie instytucjonal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niezbędność i  kwalifikacja    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Elipsa 7"/>
          <p:cNvSpPr/>
          <p:nvPr/>
        </p:nvSpPr>
        <p:spPr>
          <a:xfrm>
            <a:off x="749160" y="245916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Łącznik prosty ze strzałką 8"/>
          <p:cNvCxnSpPr/>
          <p:nvPr/>
        </p:nvCxnSpPr>
        <p:spPr>
          <a:xfrm flipH="1">
            <a:off x="2950560" y="4660560"/>
            <a:ext cx="927720" cy="376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0" name="Łącznik prosty ze strzałką 11"/>
          <p:cNvCxnSpPr/>
          <p:nvPr/>
        </p:nvCxnSpPr>
        <p:spPr>
          <a:xfrm flipH="1" flipV="1">
            <a:off x="3203280" y="3598560"/>
            <a:ext cx="72144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1" name="Łącznik prosty ze strzałką 13"/>
          <p:cNvCxnSpPr>
            <a:stCxn id="341" idx="0"/>
          </p:cNvCxnSpPr>
          <p:nvPr/>
        </p:nvCxnSpPr>
        <p:spPr>
          <a:xfrm flipV="1">
            <a:off x="4792320" y="2819160"/>
            <a:ext cx="1080" cy="84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2" name="Łącznik prosty ze strzałką 15"/>
          <p:cNvCxnSpPr/>
          <p:nvPr/>
        </p:nvCxnSpPr>
        <p:spPr>
          <a:xfrm flipV="1">
            <a:off x="5661000" y="3250800"/>
            <a:ext cx="937440" cy="63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3" name="Łącznik prosty ze strzałką 20"/>
          <p:cNvCxnSpPr/>
          <p:nvPr/>
        </p:nvCxnSpPr>
        <p:spPr>
          <a:xfrm>
            <a:off x="5652720" y="4714560"/>
            <a:ext cx="803880" cy="35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4" name="pole tekstowe 22"/>
          <p:cNvSpPr/>
          <p:nvPr/>
        </p:nvSpPr>
        <p:spPr>
          <a:xfrm rot="21013800">
            <a:off x="3184560" y="86652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ole tekstowe 23"/>
          <p:cNvSpPr/>
          <p:nvPr/>
        </p:nvSpPr>
        <p:spPr>
          <a:xfrm rot="388200">
            <a:off x="5783040" y="381924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rostokąt 2"/>
          <p:cNvSpPr/>
          <p:nvPr/>
        </p:nvSpPr>
        <p:spPr>
          <a:xfrm>
            <a:off x="2654280" y="1197000"/>
            <a:ext cx="631044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ją założenia i dane będące podstawą wyliczenia efektu ekologicznego – czy są wiarygodne i wskazują na możliwość osiągnięcia wskazanego efektu ekologicznego?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jest to warunek konieczny 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kryteriu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 dodatkowo ocenie  punktowej podlegają  ogólnie następujące zagadnienia (szczegółowo sprecyzowane w kryteriach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korzyści wynikających z zastosowania wyników projektu w praktyce gospodarczej wraz z analizą potencjału rynkowego  rozwiązania będącego wynikiem projektu  -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awidłowe wypełnienie wniosku w tym zakresie jest konieczne dla uzyskanie minimum punktowego warunkującego pozytywna ocenę w zakresie kryteriu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tencjał wyników projektu w kontekście aktualnego stanu techniki - przewaga proponowanego rozwiązania nad obecnie stosowanymi, uzasadnione zapotrzebowanie rynkowe na wynik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3"/>
          <p:cNvSpPr/>
          <p:nvPr/>
        </p:nvSpPr>
        <p:spPr>
          <a:xfrm>
            <a:off x="179280" y="515772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W określamy konkretny efekt ekologiczny, przedstawiamy liczbowo parametry możliwe do osiągnięcia w porównaniu do szeroko obecnie stosowanych rozwiązań oraz sparametryzowaną metodologię jego obliczenia. Potwierdzenie rzeczywistego jego uzyskania spodziewamy się po zakończeniu realizacji przedsięwzię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lipsa 5"/>
          <p:cNvSpPr/>
          <p:nvPr/>
        </p:nvSpPr>
        <p:spPr>
          <a:xfrm>
            <a:off x="14400" y="15001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rostokąt 2"/>
          <p:cNvSpPr/>
          <p:nvPr/>
        </p:nvSpPr>
        <p:spPr>
          <a:xfrm>
            <a:off x="900000" y="133020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Uproszczony schemat ideowy określenia efektu ekologicznego w Fazie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rostokąt 1"/>
          <p:cNvSpPr/>
          <p:nvPr/>
        </p:nvSpPr>
        <p:spPr>
          <a:xfrm>
            <a:off x="179280" y="1727280"/>
            <a:ext cx="8785440" cy="107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bór obszaru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. Wybieramy główną cechę wdrażanej innowacji która jednocześnie skutkuje najbardziej efektywnym, miarodajnym, zmniejszeniem oddziaływania na środowisko przynajmniej w jednym ze wskazanych obszarów dzięki wdrożeniu w stosunku do istniejących referencyjnych rozwiązań/instalacji/produktów/procesów. Można wybrać kilka parametrów najlepiej określających przewagi innowacyjnego rozwiąz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rostokąt 6"/>
          <p:cNvSpPr/>
          <p:nvPr/>
        </p:nvSpPr>
        <p:spPr>
          <a:xfrm>
            <a:off x="179280" y="3201840"/>
            <a:ext cx="8785440" cy="148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Metodologia i sparametryzowanie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Przedstawiamy we wniosku propozycję metodologii obliczania, sparametryzowania efektu środowiskowego. Określamy i uzasadniamy i dokumentujemy obciążenie środowiskowe w ramach wybranego obszaru istniejących referencyjnych rozwiązań/instalacji/produktów/procesów w przeliczeniu np. na jednostkę gotowego produktu/jednostkę surowca/czas pracy oraz przedstawiamy liczbowo w podobnych warunkach pracy naszą wdrażaną innowację. Różnicę możemy przedstawić jako spodziewany efekt ekologiczny z jednoczesnym podaniem warunków jego uzyskania: np.: wielkości rocznej produkcji itp. </a:t>
            </a:r>
            <a:r>
              <a:rPr b="1" lang="pl-PL" sz="1400" spc="-1" strike="noStrike">
                <a:solidFill>
                  <a:srgbClr val="ffc000"/>
                </a:solidFill>
                <a:latin typeface="Calibri"/>
              </a:rPr>
              <a:t>Metodologia określenia efektu ekologicznego, jego parametry będą podstawą oceny ekologiczno-technicznej na etapie oceny merytoryczn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rostokąt 7"/>
          <p:cNvSpPr/>
          <p:nvPr/>
        </p:nvSpPr>
        <p:spPr>
          <a:xfrm>
            <a:off x="179280" y="5084640"/>
            <a:ext cx="8785440" cy="100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ozliczanie efektu ekologicznego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Należy pamiętać, że z przedstawionego efektu należy się rozliczyć po zakończeniu realizacji przedsięwzięcia. Efekt powinien być określony w sposób wiarygodny, gwarantujący jego bezpieczne osiągnięcie a we wniosku powinna być przedstawiona metodyka potwierdzenia jego osiągnięcia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załka w dół 3"/>
          <p:cNvSpPr/>
          <p:nvPr/>
        </p:nvSpPr>
        <p:spPr>
          <a:xfrm>
            <a:off x="3959280" y="2876400"/>
            <a:ext cx="1225440" cy="25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załka w dół 9"/>
          <p:cNvSpPr/>
          <p:nvPr/>
        </p:nvSpPr>
        <p:spPr>
          <a:xfrm>
            <a:off x="3959280" y="4761000"/>
            <a:ext cx="1225440" cy="25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280" y="357120"/>
            <a:ext cx="71391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B+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B+R posiada tylko kryteria jakościowe dopuszczają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a pozycja jest oceniana na zasadzie spełnia – nie spełnia. Nie ma punkt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Negatywna ocena któregokolwiek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w ramach ww. kryterium podlegaj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przyjętego rozwiązania (w tym: możliwość utrzymania trwałości rzeczowej i ekologicznej, realistyczny harmonogram wdrażania z uwzględnieniem posiadanych pozwoleń i harmonogramu pozyskiwania pozostałych);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a przygotowania instytucjonalnego do wdrożenia przyjętego rozwiązania (czy możliwe jest sprawne wdrożenie projektu i jego trwałość instytucjonalna - ocena dotyczy również podmiotu upoważnionego do ponoszenia kosztów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ając wybór rozwiązania należy rozważyć rozwiązania alternatywne – uwagi podobnie jak dla fazy B+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tym obszarze (pierwszy z ww. tiret)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3"/>
          <p:cNvSpPr/>
          <p:nvPr/>
        </p:nvSpPr>
        <p:spPr>
          <a:xfrm>
            <a:off x="324000" y="5619600"/>
            <a:ext cx="84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rostokąt 2"/>
          <p:cNvSpPr/>
          <p:nvPr/>
        </p:nvSpPr>
        <p:spPr>
          <a:xfrm>
            <a:off x="2654280" y="1674720"/>
            <a:ext cx="6165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- brak możliwości utrzymania trwałości rzeczowej i ekologicznej w okresie 5 lat, brak realistycznego harmonogramu wdrażania projektu,  brak wiarygodnych informacji dotyczących prawa do dysponowania gruntami/obiektami na cele inwestycji, niezbędnej dokumentacji technicznej i projektowej, decyzji, uzgodnień, pozwoleń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negatyw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celu uzysk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spełnić ww. warunki, przy czym odnośnie pozwoleń, decyzji i innych dokumentów – na etapie aplikacyjnym mogą jeszcze wystąpić braki, lecz konieczne jest przedstawieni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alistycznego harmonogramu pozyskiwania pozostałych niezbędnych dokumentó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ełnej gotowośc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dsięwzięcia do realizacji, w tym posiadania kompletu niezbędnych dokumentów i uzgodnień – dodatkowe punkty zgodnie z kryteriami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maksymal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2"/>
          <p:cNvSpPr/>
          <p:nvPr/>
        </p:nvSpPr>
        <p:spPr>
          <a:xfrm>
            <a:off x="2843280" y="1916280"/>
            <a:ext cx="59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braku doświadczenia w realizacji projektów z dziedziny objętej wnioskiem lub podobnych, braku przejrzystej struktury realizacji projektu, potencjału organizacyjnego, przy jednoczesnym braku wykazania możliwości pozyskania odpowiedniego wsparcia zewnętrz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są przyznawane punkty w ramach kryterium. 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gotowania instytucjonal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jednak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aksymalna ocena punktow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jest przyznawana w przypadku spełnie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łącznie wszystkich powyższych warunk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przy czym wymagane doświadczenie musi dotyczyć realizacj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inimum 3 projektów z dziedziny objętej wnioski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ub podobnych (możliwe wykazanie odpowiedniego wsparcia zewnętrzneg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596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ole tekstowe 1"/>
          <p:cNvSpPr/>
          <p:nvPr/>
        </p:nvSpPr>
        <p:spPr>
          <a:xfrm>
            <a:off x="179280" y="1413000"/>
            <a:ext cx="89647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cenie podl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niezbędność zakresu przedsięwzięcia dla osiągnięcia efektu ekologicznego, o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sokość kosztów pod warunkiem zaakceptowania ich kwalifikowalności w poszczególnych kategor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 realizowane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w istniejącym lub nowopowstałym przedsiębiorstwie /zakładzie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polegając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ruchomieniu produkcji nowego lub zmodernizowanego wyrobu/technolog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drożeniu nowej albo znacząco udoskonalonej technologii, które służą poprawie efektywności wykorzystania zasobów naturalnych, zmniejszają negatywny wpływ człowieka na środowisko lub wzmacniają odporność gospodarki na presje środowisk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-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(wyłączeń)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78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ole tekstowe 1"/>
          <p:cNvSpPr/>
          <p:nvPr/>
        </p:nvSpPr>
        <p:spPr>
          <a:xfrm>
            <a:off x="179280" y="1341360"/>
            <a:ext cx="89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) Koszty kwalifikowane 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fazie 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) w ramach kategorii 3.1 „Przygotowanie przedsięwzięcia” kwalifikuje się tylko „Projekt budowlany i wykonawczy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) wyłącza się koszty kategorii 3.2 „Zarządzanie przedsięwzięciem” z zastrzeżeniem, że kwalifikuje się koszty „Nadzoru inwestorskiego i autorskiego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) wyłącza się koszty kategorii 3.3 „Koszty informacji i promocji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) wyłącza się koszty kategorii 3.4.1 „Koszt nabycia nieruchomości niezabudowanej, nieruchomości zabudowanej, zakup gruntu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) koszty w ramach kategorii 3.4.3 „Środki trwałe, sprzęt i wyposażenie, wartości niematerialne i prawne”, przeznaczone na zakup wartości niematerialnych i prawnych, nie mogą przekraczać 20% sumy pozostałych kosztów kwalifikowanych przedsięwzięc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) wyłącza się koszty kategorii 3.4.4 „Pozostałe koszty”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1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ole tekstowe 1"/>
          <p:cNvSpPr/>
          <p:nvPr/>
        </p:nvSpPr>
        <p:spPr>
          <a:xfrm>
            <a:off x="108000" y="1484280"/>
            <a:ext cx="903600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ócz samej kwalifikowalności kosztów ocenie podlega równi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ość poszczególnych kosztów. Negatywna ocena powoduje odrzucenie wniosk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jest przyznawana w przypadku, gdy wysokość kosztów jest nieadekwatna do zakresu przedsięwzięcia lub metoda kalkulacji jest niewiarygod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ksymalną ocen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na uzyskać, gdy wysokość kosztów nie budzi wątpliwości, są one adekwatne do zakresu przedsięwzięcia, zostały racjonalnie oszacowane, metodyka kalkulacji jest wiarygodna. W przypadku,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nie spełnia tych warunk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lub też nie przedstawiono we wniosku pełnych informacji w tym zakresie, projekt nie jest odrzucany, uzyskuje mniejszą punktację w ramach kryte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ceniana jest t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zbędność zakresu przedsięwzięcia dla osiągnięcia efektu ekologiczn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zakres rzeczowy nie powinien obejmować elementów zbędnych, które nie są konieczne do osiągnięcia celów projektu, jednocześnie powinien gwarantować osiągnięcie tych celów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egatywna ocena powoduje odrzucenie wniosku. Maksymalną punktację można uzyska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gdy koszty są uzasadnione, adekwatne do celów przedsięwzięcia, racjonalnie oszacowane, przedstawiono wiarygodną metodę kalkulacji, wpisują się w katalog kosztów kwalifikowanych. 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budzi wątpliw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tych aspektach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ena nadal pozytyw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mniejsza punktac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07640" y="620640"/>
            <a:ext cx="6634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ole tekstowe 1"/>
          <p:cNvSpPr/>
          <p:nvPr/>
        </p:nvSpPr>
        <p:spPr>
          <a:xfrm>
            <a:off x="0" y="1765440"/>
            <a:ext cx="914400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mapa lokalizacyjna inwestycj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chemat technologiczny innowacyjnej technologii będącej   przedmiotem wdraża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udium Wykonalności (opracowane wg wymagań zawartych w Instrukcji             sporządzania Studium Wykonalności dla przedsięwzięcia ubiegającego się o dofinansowanie ze środków NFOŚiGW dostępnej w generatorze wnioskó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plan sytuacyjny (o ile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zyskane główne dokumenty administracyjne przedstawiające proces uzgodnieniowy przeprowadzenia inwestycji: np. decyzje środowiskowe, pozwolenie na budow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realizacji prac budowla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uzyskiwania zgód administracyj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dokumentowanie prawa do dysponowania nieruchomości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wyceny, otrzymane oferty, kosztorys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dodatkowe dokumenty: zgłoszenia patentowe, licencje, umowy z dostawcami, listy intencyjne potwierdzające zapotrzebowanie na produkt i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Wypełnianie wniosku w GWD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Generator wniosków o dofinansowanie jest narzędziem umożliwiającym przygotowanie i przekazanie do Narodowego Funduszu Ochrony Środowiska i Gospodarki Wodnej wniosków o dofinansowanie projektów ze środków krajowych oraz realizowanych w ramach POIiŚ 2014-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rzystanie z Generatora polega na rejestrowaniu danych poprzez sieć Internet w bazie NFOŚiG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celu zautomatyzowania pracy – system posiada formularze wniosków gotowe do wypełnienia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ttp://gwd.nfosigw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onieczne jest założenie konta użytkownika. Po zalogowaniu się do generatora dostępne są m.in. instrukcje oraz pomoc kontekstowa, czyli uwagi dotyczące wypełniania wniosku i niezbędnego zakresu informacji w poszczególnych punktach formularz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ymbol zastępczy zawartości 2"/>
          <p:cNvSpPr/>
          <p:nvPr/>
        </p:nvSpPr>
        <p:spPr>
          <a:xfrm>
            <a:off x="415800" y="34275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ymbol zastępczy zawartości 2"/>
          <p:cNvSpPr/>
          <p:nvPr/>
        </p:nvSpPr>
        <p:spPr>
          <a:xfrm>
            <a:off x="0" y="5516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50560" y="356760"/>
            <a:ext cx="66358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W posiada tylko kryteria jakościowe punktowe w zakresie oceny </a:t>
            </a:r>
            <a:br>
              <a:rPr sz="1800"/>
            </a:b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ekologiczno - techni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niosek musi otrzymać całościowo oraz w grupach (I, II, III) co najmniej 60% możliwych do zdobycia punk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e kryterium posiada minimum punktowe, oprócz II.1 oraz II.3, dla których negatywna ocena nie powoduje odrzucenia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ybuch  2 19"/>
          <p:cNvSpPr/>
          <p:nvPr/>
        </p:nvSpPr>
        <p:spPr>
          <a:xfrm>
            <a:off x="3030480" y="2614680"/>
            <a:ext cx="3660840" cy="3262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lipsa 4"/>
          <p:cNvSpPr/>
          <p:nvPr/>
        </p:nvSpPr>
        <p:spPr>
          <a:xfrm>
            <a:off x="3468600" y="3522600"/>
            <a:ext cx="2332080" cy="144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badawczo rozwoj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lipsa 16"/>
          <p:cNvSpPr/>
          <p:nvPr/>
        </p:nvSpPr>
        <p:spPr>
          <a:xfrm>
            <a:off x="3538440" y="981000"/>
            <a:ext cx="2546280" cy="1816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lipsa 17"/>
          <p:cNvSpPr/>
          <p:nvPr/>
        </p:nvSpPr>
        <p:spPr>
          <a:xfrm>
            <a:off x="6448320" y="2062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w znacznym stopniu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lipsa 18"/>
          <p:cNvSpPr/>
          <p:nvPr/>
        </p:nvSpPr>
        <p:spPr>
          <a:xfrm>
            <a:off x="5661000" y="4282920"/>
            <a:ext cx="3422520" cy="1990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uzasadnienie wyboru rozwiązania i 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efekty ekonomicz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ysokość i kwalifikowalność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lipsa 7"/>
          <p:cNvSpPr/>
          <p:nvPr/>
        </p:nvSpPr>
        <p:spPr>
          <a:xfrm>
            <a:off x="727200" y="2349360"/>
            <a:ext cx="2568600" cy="169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Łącznik prosty ze strzałką 8"/>
          <p:cNvCxnSpPr/>
          <p:nvPr/>
        </p:nvCxnSpPr>
        <p:spPr>
          <a:xfrm flipH="1">
            <a:off x="2941200" y="4581000"/>
            <a:ext cx="843840" cy="38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7" name="Łącznik prosty ze strzałką 11"/>
          <p:cNvCxnSpPr/>
          <p:nvPr/>
        </p:nvCxnSpPr>
        <p:spPr>
          <a:xfrm flipH="1" flipV="1">
            <a:off x="3203640" y="3598560"/>
            <a:ext cx="5814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8" name="Łącznik prosty ze strzałką 13"/>
          <p:cNvCxnSpPr/>
          <p:nvPr/>
        </p:nvCxnSpPr>
        <p:spPr>
          <a:xfrm flipV="1">
            <a:off x="4792320" y="2819160"/>
            <a:ext cx="1080" cy="75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9" name="Łącznik prosty ze strzałką 15"/>
          <p:cNvCxnSpPr/>
          <p:nvPr/>
        </p:nvCxnSpPr>
        <p:spPr>
          <a:xfrm flipV="1">
            <a:off x="5721120" y="3280680"/>
            <a:ext cx="880200" cy="58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0" name="Łącznik prosty ze strzałką 20"/>
          <p:cNvCxnSpPr/>
          <p:nvPr/>
        </p:nvCxnSpPr>
        <p:spPr>
          <a:xfrm>
            <a:off x="5660640" y="4797360"/>
            <a:ext cx="616680" cy="38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1" name="pole tekstowe 22"/>
          <p:cNvSpPr/>
          <p:nvPr/>
        </p:nvSpPr>
        <p:spPr>
          <a:xfrm rot="21013800">
            <a:off x="3489480" y="6537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ole tekstowe 23"/>
          <p:cNvSpPr/>
          <p:nvPr/>
        </p:nvSpPr>
        <p:spPr>
          <a:xfrm rot="388200">
            <a:off x="5783400" y="3717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ybuch  2 5"/>
          <p:cNvSpPr/>
          <p:nvPr/>
        </p:nvSpPr>
        <p:spPr>
          <a:xfrm rot="1139400">
            <a:off x="4997520" y="2955960"/>
            <a:ext cx="3684600" cy="32796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lipsa 4"/>
          <p:cNvSpPr/>
          <p:nvPr/>
        </p:nvSpPr>
        <p:spPr>
          <a:xfrm>
            <a:off x="5605560" y="4005360"/>
            <a:ext cx="201600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12682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z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innowacyjność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(wg Podręcznika OSLO - zasady gromadzenia i interpret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danych dotyczących innowacji) należy rozumieć wdrożenie nowego lub znaczą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doskonalonego produktu (wyrobu lub usługi) lub procesu, nowej met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arketingowej lub nowej metody organizacyjnej w praktyce gospodarczej, organ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iejsca pracy lub stosunkach z otoczeni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raz 1" descr=""/>
          <p:cNvPicPr/>
          <p:nvPr/>
        </p:nvPicPr>
        <p:blipFill>
          <a:blip r:embed="rId1"/>
          <a:stretch/>
        </p:blipFill>
        <p:spPr>
          <a:xfrm>
            <a:off x="339840" y="3622680"/>
            <a:ext cx="246996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rostokąt 15"/>
          <p:cNvSpPr/>
          <p:nvPr/>
        </p:nvSpPr>
        <p:spPr>
          <a:xfrm>
            <a:off x="0" y="1341360"/>
            <a:ext cx="9144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dukt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duktu) to wprowadzenie wyrobu lub usługi, które są nowe lub znacząco udoskonalone w zakresie swoich cech lub zastosowań. Zalicza się tu znaczące udoskonalenia pod względem specyfikacji technicznych, komponentów i materiałów, wbudowanego oprogramowania, łatwości obsługi 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nych cech funkcjonalnych. (…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produktowe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utynowych aktualizacji/moderniza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egularnych zmian sezonowych (np. w przypadku serii odzież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dostosowywania produktu do potrzeb jednego klienta, które nie obejmuje znacząco odmiennych cech w porównaniu do produktów wyprodukowanych dla innych klien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ces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cesu), to wdrożenie nowej lub znacząco udoskonalonej metody produkcji lub dostarczania. Zalicza się tu znaczące zmiany w zakresie technologii, urządzeń oraz/lub oprogramowania. Innowacje w obrębie procesów mogą mieć za cel obniżenie kosztów jednostkowych produkcji lub dostawy, podniesienie jakości, produkcję bądź dostarczanie nowych lub znacząco udoskonalonych produk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w obrębie procesów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wzrostu zdolności produkcyjnych lub usługowych uzyskanego dzięki dod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ystemów produkcyjnych lub logistycznych, które są bardzo podobne do t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tosowanych dotychcz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Jak uzasadnić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rostokąt 15"/>
          <p:cNvSpPr/>
          <p:nvPr/>
        </p:nvSpPr>
        <p:spPr>
          <a:xfrm>
            <a:off x="179280" y="1268280"/>
            <a:ext cx="878544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Jak uzasadnić innowacyjność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Uzasadnienie innowacyjności powinno zawierać w szczególnoś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formację, które z elementów linii technologicznej produkcji lub procesu, lub jaka cecha/właściwość wyrobu  są innowacyjne, a które pełnią rolę uzupełniając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analizę informującą, czy wdrażana/kupowana technologia lub nowy/zmodernizowany wyrób są innowacyjne względem oferty już istniejącej na rynku i na czym ta innowacyjność poleg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spis podstaw/źródeł danych, na podstawie których określono stopień innowacyjności technologii/wyrobu, np. podanie tytułów raportów, roczników statystycznych i dat ich wydania, adresów stron internetowych, roczników publikacji itp. oraz wskazaniem miejsca ich dostępności, w celu zweryfikowania z informacjami przedstawio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opinii, z zastrzeżeniem, że podstawą opinii nie mogą być jedynie ogólne teksty reklamowo-opisowe dotyczące wdrażanej/kupowanej technolog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206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Kto posiada prawa do danej innowacji? Kto jest jej autor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Czy Wnioskodawca posiada prawa do danej innowacji? Czy innow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podlega ochronie patentowej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Zależnie od przypadku należy udokumentować powyższe poprzez załączen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oświadczeń, właściwych dokumentów, umów, listów intencyjnych i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sady oceny innowacyjności: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rostokąt 15"/>
          <p:cNvSpPr/>
          <p:nvPr/>
        </p:nvSpPr>
        <p:spPr>
          <a:xfrm>
            <a:off x="468360" y="1773360"/>
            <a:ext cx="8424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Projekt winien dotyczyć innowacji produktowej lub procesowej. W konkursie </a:t>
            </a:r>
            <a:r>
              <a:rPr b="0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nie jest możliwe dofinansowanie projektów, których efektem jest wyłącznie powstanie rozwiązania stanowiącego innowację marketingową lub organizacyjną.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Do oceny kryterium przyjmuje się przywołaną wyżej definicję innowacji określoną w podręczniku OECD Podręcznik Os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504d"/>
                </a:solidFill>
                <a:latin typeface="Arial"/>
              </a:rPr>
              <a:t>http://nfosigw.gov.pl/gfx/nfosigw/userfiles/files/srodki_krajowe/2018/sokol/szkolenia/innowacyjnosc_-_definicja_i_zasady_oceny_2.11.2015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ramach przedmiotowego kryterium ocenie podle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czy rezultat projektu charakteryzuje się innowacyjnością co najmniej w skali polskiego rynku, w kontekście posiadanych przez niego nowych cech, funkcjonalności w porównaniu do rozwiązań dostępnych na polskim ryn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Negatywna ocena kryterium powoduje odrzucenie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Krajowe Inteligentne Specjalizacje (KIS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rajowe Inteligentne Specjalizacje – szczegółowy opis wszystkich KIS znajduje się pod poniższym linki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gfx/nfosigw/userfiles/files/srodki_krajowe/programy_2019/v_sokol/opisy_kis_wersja_5_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IS, które obowiązują w danym naborze, są wskazane w ogłoszeniu o naborze (aktualny dokument) i Programie Priorytetowym (wskazane numery KI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Negatywna ocena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7:11Z</dcterms:created>
  <dc:creator>MPietras</dc:creator>
  <dc:description/>
  <dc:language>en-US</dc:language>
  <cp:lastModifiedBy>Kołodziej Anna</cp:lastModifiedBy>
  <cp:lastPrinted>2016-08-08T05:02:58Z</cp:lastPrinted>
  <dcterms:modified xsi:type="dcterms:W3CDTF">2019-06-13T08:00:12Z</dcterms:modified>
  <cp:revision>514</cp:revision>
  <dc:subject/>
  <dc:title>Slajd 1</dc:title>
</cp:coreProperties>
</file>